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8488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47663-9A5A-4896-815C-684CB7F12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D6948-B17E-4552-9F47-2AA1B8CE9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5DFE6-C6F4-4D35-B278-2D1FB58F8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66FE6-15B4-40F9-85B0-8D80FA365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7511E-9CA8-4685-B90B-39578308B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B6819-F425-4C01-AFDA-1626B074A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98362-2C55-4714-B011-A951BB877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B6DFB-5CD1-4929-882D-448CEBF4C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49C1E-AF9C-4BE0-AB47-6FF02729E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68618-8D9E-4E83-B428-4F2FED73A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12046-6D8D-4C65-A65A-0F6EA9103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F0668-773E-4265-8D49-5CE9C6DF6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28808-D2A5-44AC-9119-54B3415B5B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400" y="48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Idaho HRO/HRS-HRD Org Chart (14 DEC 2015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traight Connector 41"/>
          <p:cNvSpPr/>
          <p:nvPr/>
        </p:nvSpPr>
        <p:spPr>
          <a:xfrm flipH="1">
            <a:off x="2514600" y="3036960"/>
            <a:ext cx="411480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Straight Connector 37"/>
          <p:cNvSpPr/>
          <p:nvPr/>
        </p:nvSpPr>
        <p:spPr>
          <a:xfrm>
            <a:off x="4638600" y="1550880"/>
            <a:ext cx="0" cy="27990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3"/>
          <p:cNvSpPr/>
          <p:nvPr/>
        </p:nvSpPr>
        <p:spPr>
          <a:xfrm>
            <a:off x="3914640" y="990720"/>
            <a:ext cx="1447920" cy="550800"/>
          </a:xfrm>
          <a:prstGeom prst="rect">
            <a:avLst/>
          </a:prstGeom>
          <a:solidFill>
            <a:srgbClr val="b7de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Col Dawki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HR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422-333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4"/>
          <p:cNvSpPr/>
          <p:nvPr/>
        </p:nvSpPr>
        <p:spPr>
          <a:xfrm>
            <a:off x="3914640" y="1752480"/>
            <a:ext cx="1447920" cy="550800"/>
          </a:xfrm>
          <a:prstGeom prst="rect">
            <a:avLst/>
          </a:prstGeom>
          <a:solidFill>
            <a:srgbClr val="c3d6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LTC Knoel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DHR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272-38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6"/>
          <p:cNvSpPr/>
          <p:nvPr/>
        </p:nvSpPr>
        <p:spPr>
          <a:xfrm>
            <a:off x="3914640" y="2760840"/>
            <a:ext cx="1447920" cy="550800"/>
          </a:xfrm>
          <a:prstGeom prst="rect">
            <a:avLst/>
          </a:prstGeom>
          <a:solidFill>
            <a:srgbClr val="c3d6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Mr Gome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SHRS / Servi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272- 42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12"/>
          <p:cNvSpPr/>
          <p:nvPr/>
        </p:nvSpPr>
        <p:spPr>
          <a:xfrm>
            <a:off x="1654200" y="2760840"/>
            <a:ext cx="1444680" cy="550800"/>
          </a:xfrm>
          <a:prstGeom prst="rect">
            <a:avLst/>
          </a:prstGeom>
          <a:solidFill>
            <a:srgbClr val="b7de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TSgt Melissa Loep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HR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272- 422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13"/>
          <p:cNvSpPr/>
          <p:nvPr/>
        </p:nvSpPr>
        <p:spPr>
          <a:xfrm>
            <a:off x="6446880" y="2760840"/>
            <a:ext cx="1444680" cy="550800"/>
          </a:xfrm>
          <a:prstGeom prst="rect">
            <a:avLst/>
          </a:prstGeom>
          <a:solidFill>
            <a:srgbClr val="b7de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SMSgt Jeff Gu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272-42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40"/>
          <p:cNvSpPr/>
          <p:nvPr/>
        </p:nvSpPr>
        <p:spPr>
          <a:xfrm>
            <a:off x="1548000" y="3367080"/>
            <a:ext cx="7581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NG GP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TR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FEB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D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I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81"/>
          <p:cNvSpPr/>
          <p:nvPr/>
        </p:nvSpPr>
        <p:spPr>
          <a:xfrm>
            <a:off x="2270520" y="3367080"/>
            <a:ext cx="11196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-Car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ass Trans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process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raining&amp;Budg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83"/>
          <p:cNvSpPr/>
          <p:nvPr/>
        </p:nvSpPr>
        <p:spPr>
          <a:xfrm>
            <a:off x="6374520" y="3367080"/>
            <a:ext cx="8618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ERS Le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tirem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A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eOP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84"/>
          <p:cNvSpPr/>
          <p:nvPr/>
        </p:nvSpPr>
        <p:spPr>
          <a:xfrm>
            <a:off x="3295800" y="3357720"/>
            <a:ext cx="136800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upervis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abor Relation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dverse Ac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eave Don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Work Schedule Chg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85"/>
          <p:cNvSpPr/>
          <p:nvPr/>
        </p:nvSpPr>
        <p:spPr>
          <a:xfrm>
            <a:off x="4678200" y="3330720"/>
            <a:ext cx="13525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NG GPC B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TS A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FECA/OWC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tirement a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pecial LV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87"/>
          <p:cNvSpPr/>
          <p:nvPr/>
        </p:nvSpPr>
        <p:spPr>
          <a:xfrm>
            <a:off x="7125120" y="3363840"/>
            <a:ext cx="10861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centive Awar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HRS Calend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pecial Projec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68"/>
          <p:cNvSpPr/>
          <p:nvPr/>
        </p:nvSpPr>
        <p:spPr>
          <a:xfrm>
            <a:off x="2376360" y="4346640"/>
            <a:ext cx="0" cy="190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traight Connector 70"/>
          <p:cNvSpPr/>
          <p:nvPr/>
        </p:nvSpPr>
        <p:spPr>
          <a:xfrm>
            <a:off x="7169040" y="4338720"/>
            <a:ext cx="0" cy="1983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Straight Connector 69"/>
          <p:cNvSpPr/>
          <p:nvPr/>
        </p:nvSpPr>
        <p:spPr>
          <a:xfrm>
            <a:off x="4638600" y="4330800"/>
            <a:ext cx="0" cy="2142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16"/>
          <p:cNvSpPr/>
          <p:nvPr/>
        </p:nvSpPr>
        <p:spPr>
          <a:xfrm>
            <a:off x="1652760" y="4522680"/>
            <a:ext cx="1447560" cy="550800"/>
          </a:xfrm>
          <a:prstGeom prst="rect">
            <a:avLst/>
          </a:prstGeom>
          <a:solidFill>
            <a:srgbClr val="b7de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TSgt Alisha Al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Servi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422-333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17"/>
          <p:cNvSpPr/>
          <p:nvPr/>
        </p:nvSpPr>
        <p:spPr>
          <a:xfrm>
            <a:off x="3916440" y="4522680"/>
            <a:ext cx="1444680" cy="550800"/>
          </a:xfrm>
          <a:prstGeom prst="rect">
            <a:avLst/>
          </a:prstGeom>
          <a:solidFill>
            <a:srgbClr val="c3d6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SPC Bridget Wintr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Servi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422-333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18"/>
          <p:cNvSpPr/>
          <p:nvPr/>
        </p:nvSpPr>
        <p:spPr>
          <a:xfrm>
            <a:off x="6446880" y="4522680"/>
            <a:ext cx="1444680" cy="550800"/>
          </a:xfrm>
          <a:prstGeom prst="rect">
            <a:avLst/>
          </a:prstGeom>
          <a:solidFill>
            <a:srgbClr val="c3d6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SPC Brett G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Servi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422-334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88"/>
          <p:cNvSpPr/>
          <p:nvPr/>
        </p:nvSpPr>
        <p:spPr>
          <a:xfrm>
            <a:off x="6688800" y="5129280"/>
            <a:ext cx="15066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-I Benefi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OWCP ICP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tirem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FEHB Open Season A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processing A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Health Fair A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89"/>
          <p:cNvSpPr/>
          <p:nvPr/>
        </p:nvSpPr>
        <p:spPr>
          <a:xfrm>
            <a:off x="4159800" y="5129280"/>
            <a:ext cx="15066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-Z Benefi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tirem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FEHB Open Season A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processing A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90"/>
          <p:cNvSpPr/>
          <p:nvPr/>
        </p:nvSpPr>
        <p:spPr>
          <a:xfrm>
            <a:off x="1812960" y="5129280"/>
            <a:ext cx="13251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J-Q Benefi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Health Fa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FEHB Open Seas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bsent Track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processing A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ass Transit A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Straight Connector 98"/>
          <p:cNvSpPr/>
          <p:nvPr/>
        </p:nvSpPr>
        <p:spPr>
          <a:xfrm flipH="1" flipV="1">
            <a:off x="2376000" y="4336920"/>
            <a:ext cx="4792680" cy="223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7-08T18:05:19Z</dcterms:created>
  <dc:creator>judy.knoelk</dc:creator>
  <dc:description/>
  <dc:language>en-US</dc:language>
  <cp:lastModifiedBy>Gomez, Albert N Mr CIV USAF ID ARNG</cp:lastModifiedBy>
  <dcterms:modified xsi:type="dcterms:W3CDTF">2015-12-11T00:29:47Z</dcterms:modified>
  <cp:revision>31</cp:revision>
  <dc:subject/>
  <dc:title>Idaho HRO Org Chart</dc:title>
</cp:coreProperties>
</file>